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F30-F46A-42C6-BF64-AA08AAC5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CDD8-5425-47CA-80EA-CBB89AE3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23A1-563D-49C2-ABC7-9AC43067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71DA-4C3F-49FB-B7E1-273F06E2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D14-8625-4364-AFEA-5CBEEDFA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5E2-999A-4336-B615-1244598B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BDD-2C73-495E-A3E4-ACD8F7B2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902-56A4-4066-8B58-0D9622DA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C2F-8855-4595-85DD-8991F44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C0C3-FEDD-43CB-8F0A-C4D4FEDA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487A-5693-472D-BFA2-13FA7CA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571-DF68-4490-AE16-D7B61DC7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8C2E-55FD-48F3-B750-E284AAB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4B8C-EFB2-44B1-9A07-0022145A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3928-415D-4747-9553-70D65A6E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87C9-F4F9-4914-B4DF-1978655C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3F9ED-EA88-4DD6-AA67-453203B4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B6FC3-ACC7-4615-B8D2-0D2D388E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7293-5CCC-4398-8591-8C81996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66027-CE93-4711-8CF8-3C7AB469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CC7E6-5A8B-42B9-9D60-A058E0A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6EC4F-EC6D-4A6B-8CDA-14A9B85C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E3C-A2AA-4B29-B524-BF1DDA7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38981-608F-4E7B-8E05-EE2F3A9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1EA6-9D46-4E61-A240-1965022F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2FCD-3560-4D7D-AB61-91BD702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6F27-D509-47C5-AC0C-7C34720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FC813-6397-4894-A888-47235E35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18C9-1836-4F05-8D27-94B575FB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79C4-60F9-4E15-973D-76AD1C44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8CD9-52AC-45F6-9C6D-EE8B0C86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AD28-3CD5-4821-9A65-0923823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FA6D-20D2-4E74-95C5-781B74A1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75D-83F8-4392-97C3-C4C4787F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8230-6BE1-4946-9144-4F0B4D6A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2F16-AD0A-4562-9E28-5B0D989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18BA7-6FAD-480A-8FDF-B4583737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8B7EE-D3CD-4A32-ABB1-7FE9BC5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D2D46-46CF-4EAB-A8D2-3B3BFC21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6EEA5-E3D2-4297-8229-EB06EDF5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B725-32BB-4D6C-A3C0-A53DE9CC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51FC-6A98-4974-AD54-A9D4D7F5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1D7B2-986B-414A-9740-26F0F68F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A3139-BF6E-4BA9-8DCF-E6EB3F34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3FE2-9E2D-422B-BC59-52EF5A70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0C715-2D30-4C8C-AE92-88695616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BA2C-895D-45A0-8B73-C778899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322F1-8846-4232-80DE-F287D944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C18F-7CED-4AF5-89CD-AB68DFA5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F4F61-E5E5-4E99-A343-ACA89ED1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A317-38EA-4473-8D9B-CA3A288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FA41-0D7F-4AA2-9F1B-6A481ED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E8D58-A714-4ECF-A73D-357212A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8645-07DC-4816-9ADB-46E54C3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2167-9823-4229-A713-B72BC54F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8FA-DB66-40F4-86E6-98EBC3EF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A7D0-FBCE-476F-9DD1-DEDEB9D2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CA9-EB96-484B-8041-C29F69DD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3BA-7EF1-407C-9F30-867E621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4A7-336C-487B-81CE-7E1480D0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1278-C26F-47B8-9C58-4C93761624C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E47-688C-40F5-950E-02F75319430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BDC1-E35F-4CF6-B5A8-F363C644098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1B4F-2A98-4247-B9B3-2FD66DE01B0D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82DA-BB59-42F5-90B1-D02547495A85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pter 20 section 2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Prominenc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huge, reddish loops of gas that often link different parts of sunspot reg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se loops can be seen extending over the edge of the su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Solar Flares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when the loops in sunspot regions suddenly connect, releasing large amounts of magnetic energy which heats gas on the sun causing the gas to erupt into sp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Solar Wind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solar flares can greatly increase the solar wind from the coro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sults in an increase in the number of particles reaching Earth’s upper atmosphe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Near North and South poles, the particles can enter atmosphere= powerful electric currents cause gas molecules in atmosphere to glow= aurora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lar wind particles can also affect Earth’s magnetic field, causing magnetic stor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un accounts for 99.8 percent of the solar system’s total mas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un exerts a powerful gravitational force throughout the solar syste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Decreases in strength with distance, but is strong enough to hold all the planets and other distant objects in orbit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sun is a glowing gas made up of about ¾’s hydrogen and ¼ heliu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un’s interior consists of the core, the radiation zone, and the convection zo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r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the central region where the sun produces an enormous amount of energ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Nuclear fusion-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ere sun’s energy comes from (not burning fuel), hydrogen atoms join together to form heli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ccurs only under conditions of extremely high temperature and pressu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en the hydrogen changes into helium it loses mass and is changed in energ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Radiation Zone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a region of very tightly packed gas where energy is transferred mainly in the form of electromagnetic radi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middle layer of the sun’s interior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Convection Zone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outermost layer of the sun’s interior; hot gases rise from the bottom of the convection zone and gradually cool as they approach the to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oler gases sink, forming loops of gas that move energy toward the sun’s surfa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SolarSys_J81_Layers_sx5624a3"/>
          <p:cNvPicPr/>
          <p:nvPr/>
        </p:nvPicPr>
        <p:blipFill>
          <a:blip r:embed="rId1"/>
          <a:stretch/>
        </p:blipFill>
        <p:spPr>
          <a:xfrm>
            <a:off x="1447920" y="0"/>
            <a:ext cx="60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sun’s atmosphere includes the photosphere, the chromospheres, and the coron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photosphere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inner layer of the sun’s atmosphere; the sphere that gives off visible ligh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en you look at the sun, you are looking at the photosphe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chromospher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middle layer of the sun’s atmosphere; can be called the “color sphere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ddish glow visible just around the photosphere you can see during a total eclips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The corona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the outer layer, which looks like a white halo around the s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Means “crown” in Lati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Extends into space and gradually thins into streams of electrically charged particles called the </a:t>
            </a:r>
            <a:r>
              <a:rPr b="1" lang="en-US" sz="2300" spc="-1" strike="noStrike" u="sng">
                <a:solidFill>
                  <a:srgbClr val="6c6c6c"/>
                </a:solidFill>
                <a:uFillTx/>
                <a:latin typeface="Trebuchet MS"/>
              </a:rPr>
              <a:t>solar win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atures on or just above the sun’s surface include sunspots, prominences, and solar fla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Sunspot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dark spots on the sun’s surface; areas of gas on the sun’s surface that are cooler than the gases around the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ooler gases don’t give off as much light as hotter gas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The sun rotates on its axis, just as Earth do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3:05:21Z</dcterms:created>
  <dc:creator>Falcon School District 49</dc:creator>
  <dc:description/>
  <dc:language>en-US</dc:language>
  <cp:lastModifiedBy>Falcon School District 49</cp:lastModifiedBy>
  <dcterms:modified xsi:type="dcterms:W3CDTF">2009-09-01T03:19:11Z</dcterms:modified>
  <cp:revision>2</cp:revision>
  <dc:subject/>
  <dc:title>The Sun</dc:title>
</cp:coreProperties>
</file>